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14765"/>
        <c:axId val="29917483"/>
      </c:barChart>
      <c:catAx>
        <c:axId val="61814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17483"/>
        <c:crosses val="autoZero"/>
        <c:auto val="1"/>
        <c:lblAlgn val="ctr"/>
        <c:lblOffset val="100"/>
        <c:noMultiLvlLbl val="0"/>
      </c:catAx>
      <c:valAx>
        <c:axId val="29917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14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24FD-FF0B-4BEB-A109-5CE5FFFD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D2E-1A83-4F66-9FC0-9BCE63C5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E24-D273-42B1-BF46-C4CD1587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4F86-C7BD-4BC2-8B61-D6153267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0B1-E3A1-4792-971B-A7EE1C40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FEC-452E-4CC0-89CC-A293FAD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0C6-3CF1-42E5-96D8-7D767664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1FD1-F05A-4692-9C58-E7F84FBB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B874-DBF9-4CAB-8B46-5A8F7AC0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C66-843D-42DA-B54E-41D435F4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84AF-3D8D-4FEE-8510-0675DA51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BB4-5514-4C3E-AD7C-06F15E17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3F58C-543A-445D-A9E5-8C1A4EDAF9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